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C0CE-F124-478A-A77E-E700A3509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771E-9122-40E6-8207-56E927641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930F-E446-4828-88C2-0215FF683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5072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660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0448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5072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660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7236-771C-4AC8-98B7-EA175728E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171440" y="177480"/>
            <a:ext cx="7793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90C9-4E94-4A90-B6F9-70396E6C9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5072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9660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20448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15072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9660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A60E-BC80-4A73-AA0F-0CEAF7DCF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DB20-2E2F-4E7B-9752-3BD666E7C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758E-ADED-460C-A3BA-0DB40A715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71440" y="177480"/>
            <a:ext cx="7793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A130-949B-4EB0-B5ED-E91C18AB7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7B4E-B6DE-48B7-861C-4F65F456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DA97-28C0-489A-8342-F9F6504F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54C9-F17D-4B0E-9554-2231CA4BA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38120" y="223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0800" y="22392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61960" y="6462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32040" y="6462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7600" y="57312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82640" y="1159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63680" y="9064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188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2626920" y="6243480"/>
            <a:ext cx="392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509D0-9D0F-4001-95B8-08A18B3B59CA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100080" y="2438280"/>
            <a:ext cx="9009000" cy="1052640"/>
            <a:chOff x="10008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390600" y="2546280"/>
              <a:ext cx="711360" cy="474840"/>
              <a:chOff x="39060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39060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7364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514440" y="2968560"/>
              <a:ext cx="737640" cy="474840"/>
              <a:chOff x="51444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51444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8308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10008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3512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41616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2560" y="980640"/>
            <a:ext cx="772020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980640"/>
            <a:ext cx="769644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Tahoma"/>
              </a:rPr>
              <a:t>Scattered Context Grammars: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3600"/>
            </a:b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Generation of Languages in a Semi-Parallel Way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A) 1/2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heorem 1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 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heorem 2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Sketch): 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}.  Assume th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, {a}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is a SCG. In G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.  Thus,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very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.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|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Consid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,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 |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= 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&lt;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1, s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—a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adi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C368-BBCC-4AE5-BAD0-CE5896CAA755}" type="slidenum">
              <a:t>10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A) 2/2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1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3)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2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6F88-53A2-4D6F-B512-52ADD53D6CAC}" type="slidenum">
              <a:t>11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duction of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B) reduction of the number of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non-context-free)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 reduction of (A) and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E9D2-C237-4F8A-BBE0-F2C642961792}" type="slidenum">
              <a:t>12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1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eduction of the Number of Context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ontext product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a non-context-free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with 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n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very language in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generated by a scattered context grammar with only these two context produc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0, 0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1, 1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338B-7840-4FD4-B033-C55C06D8E996}" type="slidenum">
              <a:t>13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2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. Left-Extended Queue Gramm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 -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ite set of productions of the form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  Every generation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has this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]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2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+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2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2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#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+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+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CFC4-B35E-4CE0-BB46-38CA261FFA7B}" type="slidenum">
              <a:t>14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3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. Sub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binary code of symbols fro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binary code of states fro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I. Introduction of SC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F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ont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nt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0, 0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1, 1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}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V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F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used to gene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7AA7-9759-4002-975C-645A9340F041}" type="slidenum">
              <a:t>15</a:t>
            </a:fld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4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.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ontex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used to verif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et 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eac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0, 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using ($, 0, 0, $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1, 1, $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a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C9E4-790A-426B-8D9E-8C7B1CFA8A41}" type="slidenum">
              <a:t>16</a:t>
            </a:fld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5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 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CG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two context productions characterize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What is the power of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CG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a single context produc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793F-4902-44DA-9BE2-FEF727F30703}" type="slidenum">
              <a:t>17</a:t>
            </a:fld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of SCG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duction of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 reduction of the number of context (non-context-free)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C) reduction of (A) and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724D-3FF0-4A18-B8DE-385EE16BBF0E}" type="slidenum">
              <a:t>18</a:t>
            </a:fld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imultaneous Reduction (A) &amp; (B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imultaneous Reduction of the Number of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onterminals and the Number of Context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Next two theorems proved in cooperation with H. Fernau (Germany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very type-0 language is generated by a SCG with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even context productions a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ive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very type-0 language is generated by a SCG with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ix context productions a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ix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an we improve the above theorem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40DD-4D73-43A7-A36F-AC28BFA11EBA}" type="slidenum">
              <a:t>19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Based on these Paper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: Coincidental Extention of Scattered Context Languages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cta Informatic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9, 307-314,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 and Fernau, H.: On the Degree of Scattered Context-Sensitivity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eoretical Computer Scie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290, 2121-2124,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: Descriptional Complexity of Scattered Rewriting and Multirewriting: An Overview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ournal of Automata, Languages and Combinator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571-579, 20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 and Fernau, H.: A Simultaneous Reduction of Several Measures of Descriptional Complexity in Scattered Context Grammars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formation Processing Lett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214-219,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6480-901E-4334-9ECB-FCC568F1D2D3}" type="slidenum">
              <a:t>2</a:t>
            </a:fld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New Operations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free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: each production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satisfi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 }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ive: Increase of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to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y a simple language operation ove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6A64-07FD-451F-94EA-D20F22F15983}" type="slidenum">
              <a:t>20</a:t>
            </a:fld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1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incidental Exten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symbol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 a strin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y string of the for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, i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incidental #-exten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anguage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s a coincidental #-extension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string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represents a coincidental extension of a string i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deletion of all #s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sults in L, symbolically written a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re are an infinitely many coincidental extensions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e writ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D1DC-38E7-4DFA-B1AF-AF11A045E877}" type="slidenum">
              <a:t>21</a:t>
            </a:fld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2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ampl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5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,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a#b#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olds, bu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hol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5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is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incidental #-extension of any language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68E0-C51B-4E2C-BAC8-7891BF898109}" type="slidenum">
              <a:t>22</a:t>
            </a:fld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3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, there exists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Sketch):  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re exists a SCG, G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G). Construct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, P, S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#}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so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omomorphism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every nontermina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every termina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2F95-5355-441E-88B6-6396CFB4AAF0}" type="slidenum">
              <a:t>23</a:t>
            </a:fld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4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22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constructed by performing the next six step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$)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I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ry 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d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$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, $)  t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II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, $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, $)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V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$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dd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(#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#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#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#, §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BAD1-5FD0-4097-8566-88E65349197B}" type="slidenum">
              <a:t>24</a:t>
            </a:fld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5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I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dd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#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#) to 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generates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in this wa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Y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$}. In addition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§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nd only if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G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CBCA-A953-45C4-A0AB-FB7CB10A94EB}" type="slidenum">
              <a:t>25</a:t>
            </a:fld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6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reater detail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expressed 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Then, there exists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E796-1130-4150-86CE-E6CA783029EA}" type="slidenum">
              <a:t>26</a:t>
            </a:fld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Use in Theoretical Computer Science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e in Theoretical Computer 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For every languag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there exists a homomorphis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 languag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uch that     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complex way, this result was proved on page 245 in [Greibach, S. A. and Hopcroft, J. E.: Scattered Context Grammars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. Comput. Syst. Sci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, 232-247 (1969)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539F-EEB5-4E17-9A10-A0FFA70A2A16}" type="slidenum">
              <a:t>27</a:t>
            </a:fld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Future Investigation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ture Investig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k-limited coincidental exten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 a non-negative intege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symbol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 a strin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y string of the for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here 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, is a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mi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incidental #-exten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anguage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s a coincidental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mi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#-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ten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string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present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limited coincidental extension of a string i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deletion of all #s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sults in L, symbolically written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amp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, 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D5A9-F5CC-488D-A454-2D24D48C2811}" type="slidenum">
              <a:t>28</a:t>
            </a:fld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Very Important Open Problem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mportant 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ere exist a non-negative integ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such that 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for so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o, I know how to prov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free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F5D0-F2AA-4029-954F-D740BF4B7CD0}" type="slidenum">
              <a:t>29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lassification of Parallel Grammar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. Totally parallel gramm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uch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ystems, rewrit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ymbols of the sentential form during a single derivation step (not discussed in this talk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. Partially parallel gramm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writ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ymb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leaving the other symbols unrewritten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cattered Context Gramm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ork in a partially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allel way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se grammars ar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entral to this tal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3CC5-0FD0-4435-9AC4-1F0B4BFDB675}" type="slidenum">
              <a:t>3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cattered Context Grammars (SCGs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s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parallel gramma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of several context-free productions during a single derivation step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onger than CF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 Topics under Discu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tion of the grammatical siz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language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AEA0-55C2-4A9E-9190-A6D5407BBE0C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ncept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of context-free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ral nonterminals are rewritten in parallel while the rest of the sentential  form remains un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D5FB-1AE9-4049-9857-BB0FB5B4F55A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Definition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attered context gramma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as in a CF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finite set of productions of the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 with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rect deri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...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...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erated langu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A24A-397C-435D-B2CC-FA4E669EAC2B}" type="slidenum">
              <a:t>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duc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A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ri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bA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AbbAc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bb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erated Langu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1E7D-A307-4D84-9B49-705CB701643C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Language Familie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uage Famil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tex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itive Langu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cursivel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erable Langu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SCG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SCG  with no more tha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terminals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CCD5-2B61-48CF-883C-73AF71B5C51D}" type="slidenum">
              <a:t>8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Reduction of SCGs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duction of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A) 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 reduction of the number of context (non-context-free)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 simultaneous reduction of (A) and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6C43-F79C-4980-B610-9C9F78701ABD}" type="slidenum">
              <a:t>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19:50:25Z</dcterms:created>
  <dc:creator>Jan Hrouzek</dc:creator>
  <dc:description/>
  <dc:language>en-US</dc:language>
  <cp:lastModifiedBy>CVT</cp:lastModifiedBy>
  <dcterms:modified xsi:type="dcterms:W3CDTF">2006-08-30T14:47:22Z</dcterms:modified>
  <cp:revision>27</cp:revision>
  <dc:subject/>
  <dc:title>Scattered Context Grammars:  Generation of Languages in a Semi-Parallel Wa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24619893</vt:r8>
  </property>
  <property fmtid="{D5CDD505-2E9C-101B-9397-08002B2CF9AE}" pid="3" name="_AuthorEmail">
    <vt:lpwstr>books@digibooks</vt:lpwstr>
  </property>
  <property fmtid="{D5CDD505-2E9C-101B-9397-08002B2CF9AE}" pid="4" name="_AuthorEmailDisplayName">
    <vt:lpwstr>books</vt:lpwstr>
  </property>
  <property fmtid="{D5CDD505-2E9C-101B-9397-08002B2CF9AE}" pid="5" name="_EmailSubject">
    <vt:lpwstr>Spain</vt:lpwstr>
  </property>
  <property fmtid="{D5CDD505-2E9C-101B-9397-08002B2CF9AE}" pid="6" name="_ReviewingToolsShownOnce">
    <vt:lpwstr/>
  </property>
</Properties>
</file>